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1A6E-92B4-46F7-AA9B-66C1CB32A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9F9D-0A93-466B-8CC6-09E4794A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FF1D-137D-4C46-B308-0B1522B54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A1C8-F5E4-44DF-ADDE-CA0D6A120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1BB8-3BD6-41AE-93E7-8AABF076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A8A6-D2D1-4502-9E26-4E21561E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54E3-769E-4640-B89D-E3503315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0D17-BA3D-4AE8-AC48-2A012F29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C817-D66E-4BEE-81AC-D95F6083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D4ED-D687-4A92-BAE3-ECC89EC3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AA3A-60CD-48B1-8AE1-E1C6BF34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64FC-B5DE-425D-85F2-1E1BE3FB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460B-24EA-48B5-8C30-3BCAE448A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4000" y="76500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 Black"/>
              </a:rPr>
              <a:t>Тема проекта:</a:t>
            </a:r>
            <a:r>
              <a:rPr b="1" lang="en-US" sz="2800" spc="-1" strike="noStrike">
                <a:solidFill>
                  <a:srgbClr val="8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4360" y="1989000"/>
            <a:ext cx="7632720" cy="137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мнатные растения</a:t>
            </a:r>
            <a:endParaRPr b="1" i="1" lang="en-US" sz="4000" spc="1" strike="noStrike">
              <a:ln w="2556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692360" y="3429000"/>
            <a:ext cx="5759280" cy="14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уголке природы </a:t>
            </a:r>
            <a:endParaRPr b="1" i="1" lang="en-US" sz="4000" spc="1" strike="noStrike">
              <a:ln w="2556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43280" y="6021360"/>
            <a:ext cx="33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Сыктывкар,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332000" y="260280"/>
            <a:ext cx="655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Творческая групп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Arial"/>
              </a:rPr>
              <a:t>«Комнатные цветовод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1557360"/>
            <a:ext cx="838836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вторы проекта и индивидуальные тем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акова Я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«Значение и многообразие комнатных растений в ДО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шкина Наталь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«Условия для жизни комнатных растен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ночкина Наталь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«Уход за комнатными растениями и из размноже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мидт Ан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«Расположение и подбор комнатных растений в разных возрастных группа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рманова Евг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«Знакомство дошкольников с комнатными растения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62064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Дидактические цели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1484280"/>
            <a:ext cx="604836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ирование компетентности специалистов в области экологического воспитания дошколь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ирование интереса к созданию условий для растений уголка природы в детском сад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самостоятельности при поиске, обработке информации для раскрытия проблемы проек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20000" y="2276640"/>
            <a:ext cx="1295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76500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Методические задачи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558800"/>
            <a:ext cx="6594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формировать представления о растениях уголка природы в разных возрастных группах ДО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казать практическую значимость ознакомления дошкольников с комнатными растениям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научить использовать собранную информацию по теме в работе с детьми дошкольного возра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04000" y="3500280"/>
            <a:ext cx="1727280" cy="15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11280" y="765000"/>
            <a:ext cx="691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По проекту были разработаны: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езент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букле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амятки для педагогов ДО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ай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724360" y="3573360"/>
            <a:ext cx="30258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76360" y="18900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Используемая литерату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758880"/>
            <a:ext cx="820872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Баймашова В.А., Охапкина Г.М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знакомление дошкольников с комнатными растениями. – М.: «Издательство Скрипторий 2003», 2008. – 7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еретенникова С.А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знакомление дошкольников с природой: Учебник для учащихся пед. училищ. – 3-е изд., перераб. и доп. – М.: Просвещение, 1980. – 272 с., и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оронкевич О.А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бро пожаловать в экологию! Перспективный план работы по формированию экологической культуры у детей дошкольного возраста. – СПб.: « ДЕТСТВО-ПРЕСС», 2006. – 496с.    + дис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амашева Т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Комнатные растения – спутники нашей жизни // Дошкольное воспитание. – 1996. - № 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Згурская Л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логия малышам // Дошкольное воспитание. – 2004. - № 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Зенина Т.Н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блюдения дошкольников за растениями и животными: Учебное пособие. Совместная работа воспитателя с детьми и их родителями. – М.: Педагогическое общество России, 2007. – 61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Зенина Т.Н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иклы наблюдений за объектами природы. Старший дошкольный возраст. Учебно-методическое пособие. - М.: Центр педагогического образования, 2008. – 96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ванова Е.А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Комнатные растения в ДОУ // Дошкольная педагогика. – 2004. - №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ванова А.И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Экологические наблюдения и эксперименты в детском саду. Мир растений. – М.: ТЦ Сфера, 2004. – 240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арковская М.М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голок природы в детском саду: Кн. для воспитателя дет. сада. – М., 198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иколаева С.Н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етодика экологического воспитания дошкольников: Учеб. пособие для студ. сред. пед. учеб. заведений. – 3-е изд., перераб. - М.:Издательский центр «Академия», 2005. – 224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спекты занятий по формированию у дошкольников естественно-научных представлений в разных возрастных группах детского сада: Сост.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Нищева Н.В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– СПб.: ДЕТСТВО-ПРЕСС, 2009. – 144 с 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Хессайон Д.Г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се о комнатных растениях. М., 2005. - 254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2T14:40:13Z</dcterms:created>
  <dc:creator>UserXP</dc:creator>
  <dc:description/>
  <dc:language>en-US</dc:language>
  <cp:lastModifiedBy>студент</cp:lastModifiedBy>
  <dcterms:modified xsi:type="dcterms:W3CDTF">2010-06-07T07:47:26Z</dcterms:modified>
  <cp:revision>11</cp:revision>
  <dc:subject/>
  <dc:title>Слайд 1</dc:title>
</cp:coreProperties>
</file>